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D47-A0A1-4471-B1EC-FA9BB56B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3839040"/>
            <a:ext cx="71625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393-8BF6-47E2-B301-E9C55905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1280" y="13712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38390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1280" y="38390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071B-CFDD-4CD3-944C-72CE4FB8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Georg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2306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2440" y="1371240"/>
            <a:ext cx="2306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34520" y="1371240"/>
            <a:ext cx="2306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3839040"/>
            <a:ext cx="2306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2440" y="3839040"/>
            <a:ext cx="2306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34520" y="3839040"/>
            <a:ext cx="2306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6D9A-1A9E-418A-920C-B10B640C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3E07-197A-43AC-BBEE-85C3B62A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F47-8F78-4BF9-BD19-B3A3BC34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495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371240"/>
            <a:ext cx="3495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6FC-D153-4A48-BE80-2873DBC6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C43-A921-49ED-A04D-F448C5DC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680760"/>
            <a:ext cx="716292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B2A-0E1F-4520-8D56-B84013FC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371240"/>
            <a:ext cx="3495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8390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CAF-7D68-4CCA-AB80-67F1D1CC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495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280" y="13712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1280" y="38390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D4A-A767-4569-AB8A-5F9E7AF1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3712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39040"/>
            <a:ext cx="71625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2DF-C1EE-4A0F-8902-05D0380A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B912-AB37-440A-AC25-A9539C5E6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58760" y="139680"/>
            <a:ext cx="8826480" cy="6578640"/>
            <a:chOff x="158760" y="139680"/>
            <a:chExt cx="8826480" cy="6578640"/>
          </a:xfrm>
        </p:grpSpPr>
        <p:sp>
          <p:nvSpPr>
            <p:cNvPr id="4" name=""/>
            <p:cNvSpPr/>
            <p:nvPr/>
          </p:nvSpPr>
          <p:spPr>
            <a:xfrm>
              <a:off x="158760" y="139680"/>
              <a:ext cx="8826480" cy="6578640"/>
            </a:xfrm>
            <a:prstGeom prst="rect">
              <a:avLst/>
            </a:prstGeom>
            <a:gradFill rotWithShape="0">
              <a:gsLst>
                <a:gs pos="0">
                  <a:srgbClr val="3251b1"/>
                </a:gs>
                <a:gs pos="50000">
                  <a:srgbClr val="00279f"/>
                </a:gs>
                <a:gs pos="100000">
                  <a:srgbClr val="3251b1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6600" y="291960"/>
              <a:ext cx="8470800" cy="62740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b66ba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79440" y="347760"/>
              <a:ext cx="8385120" cy="6164280"/>
            </a:xfrm>
            <a:prstGeom prst="rect">
              <a:avLst/>
            </a:prstGeom>
            <a:gradFill rotWithShape="0">
              <a:gsLst>
                <a:gs pos="0">
                  <a:srgbClr val="4b66ba"/>
                </a:gs>
                <a:gs pos="5000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4440" y="520560"/>
              <a:ext cx="8115120" cy="5816880"/>
            </a:xfrm>
            <a:prstGeom prst="rect">
              <a:avLst/>
            </a:prstGeom>
            <a:gradFill rotWithShape="0">
              <a:gsLst>
                <a:gs pos="0">
                  <a:srgbClr val="000b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Georgi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0956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Georgia"/>
              </a:rPr>
              <a:t>Chapter 20</a:t>
            </a:r>
            <a:endParaRPr b="1" lang="en-US" sz="4400" spc="-1" strike="noStrike">
              <a:solidFill>
                <a:srgbClr val="fafd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pontaneity, entropy and free energ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990720" y="914040"/>
            <a:ext cx="7162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r exothermic process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Georgia"/>
              </a:rPr>
              <a:t>surr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s positive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r endothermic process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Georgia"/>
              </a:rPr>
              <a:t>surr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s negativ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ider this proces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Georgi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(l)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Georgi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(g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Georgia"/>
              </a:rPr>
              <a:t>sy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is positiv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Georgia"/>
              </a:rPr>
              <a:t>surr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s negativ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Georgia"/>
              </a:rPr>
              <a:t>univ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epends on temperatur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Georgia"/>
              </a:rPr>
              <a:t>Spontaneous</a:t>
            </a:r>
            <a:endParaRPr b="1" lang="en-US" sz="4400" spc="-1" strike="noStrike">
              <a:solidFill>
                <a:srgbClr val="fafd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reaction that will occur without outside interventio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e can’t determine how fas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e need both thermodynamics and kinetics to describe a reaction completel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modynamics compares initial and final stat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Kinetics describes pathway betwee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Georgia"/>
              </a:rPr>
              <a:t>Thermodynamics</a:t>
            </a:r>
            <a:endParaRPr b="1" lang="en-US" sz="4400" spc="-1" strike="noStrike">
              <a:solidFill>
                <a:srgbClr val="fafd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1st Law- the energy of the universe is constan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Keeps track of thermodynamics doesn’t correctly predict spontaneit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Georgia"/>
              </a:rPr>
              <a:t>Entropy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(S) is disorder or randomnes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2nd Law the entropy of the universe increas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Georgia"/>
              </a:rPr>
              <a:t>Entropy</a:t>
            </a:r>
            <a:endParaRPr b="1" lang="en-US" sz="4400" spc="-1" strike="noStrike">
              <a:solidFill>
                <a:srgbClr val="fafd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efined in terms of probabilit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ubstances take the arrangement that is most likel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most likely is the most random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lculate the number of arrangements for a system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19720" y="2209680"/>
            <a:ext cx="3720960" cy="37972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807080" y="2673360"/>
            <a:ext cx="2730240" cy="1054080"/>
            <a:chOff x="4807080" y="2673360"/>
            <a:chExt cx="2730240" cy="1054080"/>
          </a:xfrm>
        </p:grpSpPr>
        <p:sp>
          <p:nvSpPr>
            <p:cNvPr id="56" name=""/>
            <p:cNvSpPr/>
            <p:nvPr/>
          </p:nvSpPr>
          <p:spPr>
            <a:xfrm>
              <a:off x="4807080" y="2673360"/>
              <a:ext cx="1054080" cy="10540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97440" y="3130560"/>
              <a:ext cx="596880" cy="21600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950080" y="2673360"/>
              <a:ext cx="1587240" cy="1054080"/>
              <a:chOff x="5950080" y="2673360"/>
              <a:chExt cx="1587240" cy="1054080"/>
            </a:xfrm>
          </p:grpSpPr>
          <p:sp>
            <p:nvSpPr>
              <p:cNvPr id="59" name=""/>
              <p:cNvSpPr/>
              <p:nvPr/>
            </p:nvSpPr>
            <p:spPr>
              <a:xfrm>
                <a:off x="6483240" y="2673360"/>
                <a:ext cx="1054080" cy="10540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50080" y="3130560"/>
                <a:ext cx="596880" cy="21600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7016760" y="290196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876920" y="4191120"/>
            <a:ext cx="2729520" cy="1054080"/>
            <a:chOff x="4876920" y="4191120"/>
            <a:chExt cx="2729520" cy="1054080"/>
          </a:xfrm>
        </p:grpSpPr>
        <p:sp>
          <p:nvSpPr>
            <p:cNvPr id="63" name=""/>
            <p:cNvSpPr/>
            <p:nvPr/>
          </p:nvSpPr>
          <p:spPr>
            <a:xfrm>
              <a:off x="4876920" y="4191120"/>
              <a:ext cx="1053720" cy="10540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280" y="4648320"/>
              <a:ext cx="596520" cy="21600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6019560" y="4191120"/>
              <a:ext cx="1586880" cy="1054080"/>
              <a:chOff x="6019560" y="4191120"/>
              <a:chExt cx="1586880" cy="1054080"/>
            </a:xfrm>
          </p:grpSpPr>
          <p:sp>
            <p:nvSpPr>
              <p:cNvPr id="66" name=""/>
              <p:cNvSpPr/>
              <p:nvPr/>
            </p:nvSpPr>
            <p:spPr>
              <a:xfrm>
                <a:off x="6552720" y="4191120"/>
                <a:ext cx="1053720" cy="10540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019560" y="4648320"/>
                <a:ext cx="596520" cy="21600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5340240" y="450216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90720" y="1371240"/>
            <a:ext cx="3504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2 possible arrangement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50 % chance of finding the left empt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5181480" y="3657600"/>
            <a:ext cx="2743200" cy="1066680"/>
            <a:chOff x="5181480" y="3657600"/>
            <a:chExt cx="2743200" cy="1066680"/>
          </a:xfrm>
        </p:grpSpPr>
        <p:sp>
          <p:nvSpPr>
            <p:cNvPr id="71" name=""/>
            <p:cNvSpPr/>
            <p:nvPr/>
          </p:nvSpPr>
          <p:spPr>
            <a:xfrm>
              <a:off x="5181480" y="365760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72200" y="411480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324480" y="3657600"/>
              <a:ext cx="1600200" cy="1066680"/>
              <a:chOff x="6324480" y="3657600"/>
              <a:chExt cx="1600200" cy="1066680"/>
            </a:xfrm>
          </p:grpSpPr>
          <p:sp>
            <p:nvSpPr>
              <p:cNvPr id="74" name=""/>
              <p:cNvSpPr/>
              <p:nvPr/>
            </p:nvSpPr>
            <p:spPr>
              <a:xfrm>
                <a:off x="6858000" y="3657600"/>
                <a:ext cx="1066680" cy="1066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324480" y="4114800"/>
                <a:ext cx="6098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>
            <a:off x="6248520" y="5334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5334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4876920"/>
            <a:ext cx="1066680" cy="10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4876920"/>
            <a:ext cx="1066680" cy="10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5334120"/>
            <a:ext cx="228600" cy="228600"/>
          </a:xfrm>
          <a:prstGeom prst="ellipse">
            <a:avLst/>
          </a:prstGeom>
          <a:solidFill>
            <a:srgbClr val="e8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5029200"/>
            <a:ext cx="228600" cy="22860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029200" y="609480"/>
            <a:ext cx="2743200" cy="1067040"/>
            <a:chOff x="5029200" y="609480"/>
            <a:chExt cx="2743200" cy="1067040"/>
          </a:xfrm>
        </p:grpSpPr>
        <p:sp>
          <p:nvSpPr>
            <p:cNvPr id="83" name=""/>
            <p:cNvSpPr/>
            <p:nvPr/>
          </p:nvSpPr>
          <p:spPr>
            <a:xfrm>
              <a:off x="5029200" y="60948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19920" y="106668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6172200" y="609480"/>
              <a:ext cx="1600200" cy="1067040"/>
              <a:chOff x="6172200" y="609480"/>
              <a:chExt cx="1600200" cy="1067040"/>
            </a:xfrm>
          </p:grpSpPr>
          <p:sp>
            <p:nvSpPr>
              <p:cNvPr id="86" name=""/>
              <p:cNvSpPr/>
              <p:nvPr/>
            </p:nvSpPr>
            <p:spPr>
              <a:xfrm>
                <a:off x="6705720" y="609480"/>
                <a:ext cx="1066680" cy="10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172200" y="1066680"/>
                <a:ext cx="6094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5181480" y="2057400"/>
            <a:ext cx="2743200" cy="1066680"/>
            <a:chOff x="5181480" y="2057400"/>
            <a:chExt cx="2743200" cy="1066680"/>
          </a:xfrm>
        </p:grpSpPr>
        <p:sp>
          <p:nvSpPr>
            <p:cNvPr id="89" name=""/>
            <p:cNvSpPr/>
            <p:nvPr/>
          </p:nvSpPr>
          <p:spPr>
            <a:xfrm>
              <a:off x="5181480" y="205740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72200" y="251460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6324480" y="2057400"/>
              <a:ext cx="1600200" cy="1066680"/>
              <a:chOff x="6324480" y="2057400"/>
              <a:chExt cx="1600200" cy="1066680"/>
            </a:xfrm>
          </p:grpSpPr>
          <p:sp>
            <p:nvSpPr>
              <p:cNvPr id="92" name=""/>
              <p:cNvSpPr/>
              <p:nvPr/>
            </p:nvSpPr>
            <p:spPr>
              <a:xfrm>
                <a:off x="6858000" y="2057400"/>
                <a:ext cx="1066680" cy="1066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324480" y="2514600"/>
                <a:ext cx="6098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5568840" y="381636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1371600"/>
            <a:ext cx="3504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4 possible arrang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25% chance of finding the left emp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50 % chance of them being evenly disper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21680" y="3816360"/>
            <a:ext cx="21564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40440" y="920880"/>
            <a:ext cx="216000" cy="2156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97640" y="996840"/>
            <a:ext cx="21600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21680" y="2444760"/>
            <a:ext cx="21564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6560" y="2444760"/>
            <a:ext cx="21600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1447920"/>
            <a:ext cx="3504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4 possible arrang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8% chance of finding the left emp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50 % chance of them being evenly disper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495680" y="838080"/>
            <a:ext cx="1828800" cy="685800"/>
            <a:chOff x="4495680" y="838080"/>
            <a:chExt cx="1828800" cy="685800"/>
          </a:xfrm>
        </p:grpSpPr>
        <p:grpSp>
          <p:nvGrpSpPr>
            <p:cNvPr id="103" name=""/>
            <p:cNvGrpSpPr/>
            <p:nvPr/>
          </p:nvGrpSpPr>
          <p:grpSpPr>
            <a:xfrm>
              <a:off x="4495680" y="838080"/>
              <a:ext cx="1828800" cy="685800"/>
              <a:chOff x="4495680" y="838080"/>
              <a:chExt cx="1828800" cy="685800"/>
            </a:xfrm>
          </p:grpSpPr>
          <p:sp>
            <p:nvSpPr>
              <p:cNvPr id="104" name=""/>
              <p:cNvSpPr/>
              <p:nvPr/>
            </p:nvSpPr>
            <p:spPr>
              <a:xfrm>
                <a:off x="4495680" y="83808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56280" y="11318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5257800" y="838080"/>
                <a:ext cx="1066680" cy="685800"/>
                <a:chOff x="5257800" y="838080"/>
                <a:chExt cx="1066680" cy="6858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5613480" y="838080"/>
                  <a:ext cx="711000" cy="685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257800" y="1131840"/>
                  <a:ext cx="406440" cy="14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" name=""/>
            <p:cNvSpPr/>
            <p:nvPr/>
          </p:nvSpPr>
          <p:spPr>
            <a:xfrm>
              <a:off x="5797440" y="844560"/>
              <a:ext cx="216000" cy="216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26040" y="996840"/>
              <a:ext cx="216000" cy="216000"/>
            </a:xfrm>
            <a:prstGeom prst="ellipse">
              <a:avLst/>
            </a:prstGeom>
            <a:solidFill>
              <a:srgbClr val="e844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21480" y="1149480"/>
              <a:ext cx="215640" cy="2156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1301760"/>
              <a:ext cx="215640" cy="21600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495680" y="1752480"/>
            <a:ext cx="1828800" cy="685800"/>
            <a:chOff x="4495680" y="1752480"/>
            <a:chExt cx="1828800" cy="685800"/>
          </a:xfrm>
        </p:grpSpPr>
        <p:sp>
          <p:nvSpPr>
            <p:cNvPr id="114" name=""/>
            <p:cNvSpPr/>
            <p:nvPr/>
          </p:nvSpPr>
          <p:spPr>
            <a:xfrm>
              <a:off x="4495680" y="17524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56280" y="20462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257800" y="1752480"/>
              <a:ext cx="1066680" cy="685800"/>
              <a:chOff x="5257800" y="1752480"/>
              <a:chExt cx="1066680" cy="685800"/>
            </a:xfrm>
          </p:grpSpPr>
          <p:sp>
            <p:nvSpPr>
              <p:cNvPr id="117" name=""/>
              <p:cNvSpPr/>
              <p:nvPr/>
            </p:nvSpPr>
            <p:spPr>
              <a:xfrm>
                <a:off x="5613480" y="1752480"/>
                <a:ext cx="71100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20462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6477120" y="1752480"/>
            <a:ext cx="1828800" cy="685800"/>
            <a:chOff x="6477120" y="1752480"/>
            <a:chExt cx="1828800" cy="685800"/>
          </a:xfrm>
        </p:grpSpPr>
        <p:sp>
          <p:nvSpPr>
            <p:cNvPr id="120" name=""/>
            <p:cNvSpPr/>
            <p:nvPr/>
          </p:nvSpPr>
          <p:spPr>
            <a:xfrm>
              <a:off x="6477120" y="1752480"/>
              <a:ext cx="71100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37360" y="20462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7238880" y="1752480"/>
              <a:ext cx="1067040" cy="685800"/>
              <a:chOff x="7238880" y="1752480"/>
              <a:chExt cx="1067040" cy="685800"/>
            </a:xfrm>
          </p:grpSpPr>
          <p:sp>
            <p:nvSpPr>
              <p:cNvPr id="123" name=""/>
              <p:cNvSpPr/>
              <p:nvPr/>
            </p:nvSpPr>
            <p:spPr>
              <a:xfrm>
                <a:off x="7594560" y="175248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238880" y="20462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4572000" y="2666880"/>
            <a:ext cx="1828800" cy="685800"/>
            <a:chOff x="4572000" y="2666880"/>
            <a:chExt cx="1828800" cy="685800"/>
          </a:xfrm>
        </p:grpSpPr>
        <p:sp>
          <p:nvSpPr>
            <p:cNvPr id="126" name=""/>
            <p:cNvSpPr/>
            <p:nvPr/>
          </p:nvSpPr>
          <p:spPr>
            <a:xfrm>
              <a:off x="4572000" y="26668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32240" y="29606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5334120" y="2666880"/>
              <a:ext cx="1066680" cy="685800"/>
              <a:chOff x="5334120" y="2666880"/>
              <a:chExt cx="1066680" cy="685800"/>
            </a:xfrm>
          </p:grpSpPr>
          <p:sp>
            <p:nvSpPr>
              <p:cNvPr id="129" name=""/>
              <p:cNvSpPr/>
              <p:nvPr/>
            </p:nvSpPr>
            <p:spPr>
              <a:xfrm>
                <a:off x="5689440" y="266688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34120" y="29606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4578480" y="1987560"/>
            <a:ext cx="21564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26040" y="1835280"/>
            <a:ext cx="216000" cy="21564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21480" y="1987560"/>
            <a:ext cx="215640" cy="2160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50080" y="2139840"/>
            <a:ext cx="21564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78880" y="1758960"/>
            <a:ext cx="21564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11840" y="1835280"/>
            <a:ext cx="216000" cy="21564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02560" y="2063880"/>
            <a:ext cx="216000" cy="21564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7480" y="1987560"/>
            <a:ext cx="21564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73760" y="267336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02360" y="2825640"/>
            <a:ext cx="21600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83040" y="2978280"/>
            <a:ext cx="216000" cy="21564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26040" y="3130560"/>
            <a:ext cx="21600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553080" y="2666880"/>
            <a:ext cx="1828800" cy="685800"/>
            <a:chOff x="6553080" y="2666880"/>
            <a:chExt cx="1828800" cy="685800"/>
          </a:xfrm>
        </p:grpSpPr>
        <p:sp>
          <p:nvSpPr>
            <p:cNvPr id="144" name=""/>
            <p:cNvSpPr/>
            <p:nvPr/>
          </p:nvSpPr>
          <p:spPr>
            <a:xfrm>
              <a:off x="6553080" y="26668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13680" y="29606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7315200" y="2666880"/>
              <a:ext cx="1066680" cy="685800"/>
              <a:chOff x="7315200" y="2666880"/>
              <a:chExt cx="1066680" cy="685800"/>
            </a:xfrm>
          </p:grpSpPr>
          <p:sp>
            <p:nvSpPr>
              <p:cNvPr id="147" name=""/>
              <p:cNvSpPr/>
              <p:nvPr/>
            </p:nvSpPr>
            <p:spPr>
              <a:xfrm>
                <a:off x="7670880" y="2666880"/>
                <a:ext cx="71100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15200" y="29606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7854840" y="267336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83440" y="2825640"/>
            <a:ext cx="21600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8880" y="2978280"/>
            <a:ext cx="215640" cy="21564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5880" y="2749680"/>
            <a:ext cx="215640" cy="21564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572000" y="3657600"/>
            <a:ext cx="1828800" cy="685800"/>
            <a:chOff x="4572000" y="3657600"/>
            <a:chExt cx="1828800" cy="685800"/>
          </a:xfrm>
        </p:grpSpPr>
        <p:sp>
          <p:nvSpPr>
            <p:cNvPr id="154" name=""/>
            <p:cNvSpPr/>
            <p:nvPr/>
          </p:nvSpPr>
          <p:spPr>
            <a:xfrm>
              <a:off x="4572000" y="365760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32240" y="395136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334120" y="3657600"/>
              <a:ext cx="1066680" cy="685800"/>
              <a:chOff x="5334120" y="3657600"/>
              <a:chExt cx="1066680" cy="685800"/>
            </a:xfrm>
          </p:grpSpPr>
          <p:sp>
            <p:nvSpPr>
              <p:cNvPr id="157" name=""/>
              <p:cNvSpPr/>
              <p:nvPr/>
            </p:nvSpPr>
            <p:spPr>
              <a:xfrm>
                <a:off x="5689440" y="365760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34120" y="395136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6102360" y="374004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73760" y="4044960"/>
            <a:ext cx="21600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7080" y="4044960"/>
            <a:ext cx="215640" cy="2160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9360" y="3740040"/>
            <a:ext cx="21600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572000" y="5410080"/>
            <a:ext cx="1828800" cy="685800"/>
            <a:chOff x="4572000" y="5410080"/>
            <a:chExt cx="1828800" cy="685800"/>
          </a:xfrm>
        </p:grpSpPr>
        <p:sp>
          <p:nvSpPr>
            <p:cNvPr id="164" name=""/>
            <p:cNvSpPr/>
            <p:nvPr/>
          </p:nvSpPr>
          <p:spPr>
            <a:xfrm>
              <a:off x="4572000" y="54100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32240" y="57038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334120" y="5410080"/>
              <a:ext cx="1066680" cy="685800"/>
              <a:chOff x="5334120" y="5410080"/>
              <a:chExt cx="1066680" cy="685800"/>
            </a:xfrm>
          </p:grpSpPr>
          <p:sp>
            <p:nvSpPr>
              <p:cNvPr id="167" name=""/>
              <p:cNvSpPr/>
              <p:nvPr/>
            </p:nvSpPr>
            <p:spPr>
              <a:xfrm>
                <a:off x="5689440" y="541008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334120" y="57038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4959360" y="5721480"/>
            <a:ext cx="216000" cy="2156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73760" y="5492880"/>
            <a:ext cx="216000" cy="21564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7080" y="5492880"/>
            <a:ext cx="215640" cy="21564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26040" y="5721480"/>
            <a:ext cx="216000" cy="21564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553080" y="3505320"/>
            <a:ext cx="1828800" cy="685800"/>
            <a:chOff x="6553080" y="3505320"/>
            <a:chExt cx="1828800" cy="685800"/>
          </a:xfrm>
        </p:grpSpPr>
        <p:sp>
          <p:nvSpPr>
            <p:cNvPr id="174" name=""/>
            <p:cNvSpPr/>
            <p:nvPr/>
          </p:nvSpPr>
          <p:spPr>
            <a:xfrm>
              <a:off x="6553080" y="350532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13680" y="3798720"/>
              <a:ext cx="406440" cy="14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315200" y="3505320"/>
              <a:ext cx="1066680" cy="685800"/>
              <a:chOff x="7315200" y="3505320"/>
              <a:chExt cx="1066680" cy="685800"/>
            </a:xfrm>
          </p:grpSpPr>
          <p:sp>
            <p:nvSpPr>
              <p:cNvPr id="177" name=""/>
              <p:cNvSpPr/>
              <p:nvPr/>
            </p:nvSpPr>
            <p:spPr>
              <a:xfrm>
                <a:off x="7670880" y="3505320"/>
                <a:ext cx="71100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315200" y="3798720"/>
                <a:ext cx="406440" cy="14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7854840" y="351144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35880" y="3587760"/>
            <a:ext cx="21564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35880" y="3892680"/>
            <a:ext cx="215640" cy="21564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7480" y="3816360"/>
            <a:ext cx="21564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629400" y="4343400"/>
            <a:ext cx="1828800" cy="685800"/>
            <a:chOff x="6629400" y="4343400"/>
            <a:chExt cx="1828800" cy="685800"/>
          </a:xfrm>
        </p:grpSpPr>
        <p:sp>
          <p:nvSpPr>
            <p:cNvPr id="184" name=""/>
            <p:cNvSpPr/>
            <p:nvPr/>
          </p:nvSpPr>
          <p:spPr>
            <a:xfrm>
              <a:off x="6629400" y="434340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89640" y="463716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7391520" y="4343400"/>
              <a:ext cx="1066680" cy="685800"/>
              <a:chOff x="7391520" y="4343400"/>
              <a:chExt cx="1066680" cy="685800"/>
            </a:xfrm>
          </p:grpSpPr>
          <p:sp>
            <p:nvSpPr>
              <p:cNvPr id="187" name=""/>
              <p:cNvSpPr/>
              <p:nvPr/>
            </p:nvSpPr>
            <p:spPr>
              <a:xfrm>
                <a:off x="7746840" y="434340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91520" y="463716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7931160" y="4349880"/>
            <a:ext cx="216000" cy="2156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64480" y="4730760"/>
            <a:ext cx="21564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4840" y="4654440"/>
            <a:ext cx="216000" cy="2160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40440" y="4502160"/>
            <a:ext cx="21600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572000" y="4495680"/>
            <a:ext cx="1828800" cy="685800"/>
            <a:chOff x="4572000" y="4495680"/>
            <a:chExt cx="1828800" cy="685800"/>
          </a:xfrm>
        </p:grpSpPr>
        <p:sp>
          <p:nvSpPr>
            <p:cNvPr id="194" name=""/>
            <p:cNvSpPr/>
            <p:nvPr/>
          </p:nvSpPr>
          <p:spPr>
            <a:xfrm>
              <a:off x="4572000" y="44956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32240" y="47894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4120" y="4495680"/>
              <a:ext cx="1066680" cy="685800"/>
              <a:chOff x="5334120" y="4495680"/>
              <a:chExt cx="1066680" cy="685800"/>
            </a:xfrm>
          </p:grpSpPr>
          <p:sp>
            <p:nvSpPr>
              <p:cNvPr id="197" name=""/>
              <p:cNvSpPr/>
              <p:nvPr/>
            </p:nvSpPr>
            <p:spPr>
              <a:xfrm>
                <a:off x="5689440" y="449568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334120" y="47894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807080" y="4654440"/>
            <a:ext cx="21564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7080" y="4959360"/>
            <a:ext cx="21564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97440" y="4883040"/>
            <a:ext cx="216000" cy="2160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02360" y="4807080"/>
            <a:ext cx="216000" cy="21564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705720" y="5410080"/>
            <a:ext cx="1828800" cy="685800"/>
            <a:chOff x="6705720" y="5410080"/>
            <a:chExt cx="1828800" cy="685800"/>
          </a:xfrm>
        </p:grpSpPr>
        <p:sp>
          <p:nvSpPr>
            <p:cNvPr id="204" name=""/>
            <p:cNvSpPr/>
            <p:nvPr/>
          </p:nvSpPr>
          <p:spPr>
            <a:xfrm>
              <a:off x="6705720" y="5410080"/>
              <a:ext cx="71100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65960" y="57038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467480" y="5410080"/>
              <a:ext cx="1067040" cy="685800"/>
              <a:chOff x="7467480" y="5410080"/>
              <a:chExt cx="1067040" cy="685800"/>
            </a:xfrm>
          </p:grpSpPr>
          <p:sp>
            <p:nvSpPr>
              <p:cNvPr id="207" name=""/>
              <p:cNvSpPr/>
              <p:nvPr/>
            </p:nvSpPr>
            <p:spPr>
              <a:xfrm>
                <a:off x="7823160" y="541008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467480" y="57038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6940440" y="5492880"/>
            <a:ext cx="216000" cy="2156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36080" y="5568840"/>
            <a:ext cx="21564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931160" y="5721480"/>
            <a:ext cx="216000" cy="21564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16760" y="5797440"/>
            <a:ext cx="21600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553080" y="762120"/>
            <a:ext cx="1828800" cy="685800"/>
            <a:chOff x="6553080" y="762120"/>
            <a:chExt cx="1828800" cy="685800"/>
          </a:xfrm>
        </p:grpSpPr>
        <p:grpSp>
          <p:nvGrpSpPr>
            <p:cNvPr id="214" name=""/>
            <p:cNvGrpSpPr/>
            <p:nvPr/>
          </p:nvGrpSpPr>
          <p:grpSpPr>
            <a:xfrm>
              <a:off x="6553080" y="762120"/>
              <a:ext cx="1828800" cy="685800"/>
              <a:chOff x="6553080" y="762120"/>
              <a:chExt cx="1828800" cy="685800"/>
            </a:xfrm>
          </p:grpSpPr>
          <p:sp>
            <p:nvSpPr>
              <p:cNvPr id="215" name=""/>
              <p:cNvSpPr/>
              <p:nvPr/>
            </p:nvSpPr>
            <p:spPr>
              <a:xfrm>
                <a:off x="7670880" y="762120"/>
                <a:ext cx="71100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15200" y="1055520"/>
                <a:ext cx="406440" cy="14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6553080" y="762120"/>
                <a:ext cx="1067040" cy="685800"/>
                <a:chOff x="6553080" y="762120"/>
                <a:chExt cx="1067040" cy="6858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553080" y="762120"/>
                  <a:ext cx="711360" cy="685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213680" y="1055520"/>
                  <a:ext cx="406440" cy="147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6864480" y="768240"/>
              <a:ext cx="215640" cy="216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35880" y="920880"/>
              <a:ext cx="215640" cy="215640"/>
            </a:xfrm>
            <a:prstGeom prst="ellipse">
              <a:avLst/>
            </a:prstGeom>
            <a:solidFill>
              <a:srgbClr val="e844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40440" y="1073160"/>
              <a:ext cx="216000" cy="21600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11840" y="1225440"/>
              <a:ext cx="216000" cy="21600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Georgia"/>
              </a:rPr>
              <a:t>Gases</a:t>
            </a:r>
            <a:endParaRPr b="1" lang="en-US" sz="4400" spc="-1" strike="noStrike">
              <a:solidFill>
                <a:srgbClr val="fafd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ases completely fill their chamber because there are many more ways to do that than to leave half empt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82960" indent="-282960">
              <a:lnSpc>
                <a:spcPct val="80000"/>
              </a:lnSpc>
              <a:spcBef>
                <a:spcPts val="134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solid </a:t>
            </a: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&lt;S</a:t>
            </a: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liquid </a:t>
            </a: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&lt;&lt;S</a:t>
            </a: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ga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 are many more ways for the molecules to be arranged as a liquid than a soli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ases have a huge number of positions possibl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Georgia"/>
              </a:rPr>
              <a:t>Entropy</a:t>
            </a:r>
            <a:endParaRPr b="1" lang="en-US" sz="4400" spc="-1" strike="noStrike">
              <a:solidFill>
                <a:srgbClr val="fafd00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utions form because there are many more possible arrangements of dissolved pieces than if they stay separat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1440" indent="-2714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2nd Law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1440" indent="-271440">
              <a:lnSpc>
                <a:spcPct val="8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Georgia"/>
              </a:rPr>
              <a:t>univ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Georgia"/>
              </a:rPr>
              <a:t>sy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Georgia"/>
              </a:rPr>
              <a:t>surr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marL="271440" indent="-2714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f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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Georgia"/>
              </a:rPr>
              <a:t>univ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s positive the process is spontaneou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1440" indent="-2714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f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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Georgia"/>
              </a:rPr>
              <a:t>univ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s negative the process is spontaneous in the opposite directio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26T17:54:12Z</dcterms:created>
  <dc:creator/>
  <dc:description/>
  <cp:keywords/>
  <dc:language>en-US</dc:language>
  <cp:lastModifiedBy>labelo</cp:lastModifiedBy>
  <dcterms:modified xsi:type="dcterms:W3CDTF">2012-01-30T18:54:10Z</dcterms:modified>
  <cp:revision>7</cp:revision>
  <dc:subject/>
  <dc:title>Chapter 16</dc:title>
</cp:coreProperties>
</file>